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DECB-EAE0-4A4D-BEB3-760A3770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01A2-3E10-423F-935A-AA41469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7EE0-D298-4DF9-9A29-3D73AA6E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5943-C6EF-4688-9D49-E4F07E54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485-E0DC-4456-A082-E99E353E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B9EE-70AF-489E-B55E-75D7905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8B09-F210-4D44-AEB0-9AD0E6E6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9DB-F034-4E20-A465-AFCF1F4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0EA-1645-4B19-8653-529B9A0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FA53-26F4-4910-8FF7-A1F967CE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2E6C-871B-4A2E-8B94-472EA8C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E247-A541-4588-B6E0-D3E346A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14D2-2AEC-4109-B018-7518324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BC92-D2A6-4E5E-B08A-7A72518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3776-865B-4205-8732-5DE2320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DD6-71D4-446C-AC89-99426BA9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75B-DDA8-4524-A9AB-F69F5B9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B361-1D94-4A82-85C7-24F84D1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78C3-3632-4337-A97E-80EA330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0C53-2910-4405-A9C7-35926D2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8300-1F6B-42CB-A374-56A2E97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4A7C-5FE2-4FA4-B593-3509F69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DCE2-7763-408C-AFC4-BD702D5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65C0-A722-49FC-A792-2B04215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022-7521-4062-9548-168EE278E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D25-FF8D-4D72-AAAA-639F0094B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gher standards likely to increase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in cage size for laying hens increases costs by 10-20% and elimination of cages by 40-70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 impact on producers if consumers switch to competing products or non-conforming sources of supp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 is lower if consumers are willing to pay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an be used to inform consumer ch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studies suggest that expressions of “willingness to pay” are not likely to be reflected in actual consumer cho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Measures The Fu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ressure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s in legislation at the state level could lead to distor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ance needed between legislative and voluntary mechanis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search needed, particularly on economic aspects of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umane Treatment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f Farm Animal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Blandf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e Treatmen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Farm Anim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ivity and animal welfare in conflic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ublic pressure for higher welfare standards – production of eggs, pork and veal under particular scrutin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approach should be used – self-regulation or legisla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welfare – a difficult concept to define and measure objec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fining “humane” treatment even more challenging due to value judg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ientific indicators of well-being based on productivity, health, physiology and behav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rights – animal agriculture should not ex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“moral” good – absolute standards that must be me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market failure issue to which economic principles can be appli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Feder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nimal Welfare Ac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66) does not apply to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umane Methods of Slaughter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978) excludes poult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Twenty-eight Hour La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873) regulates transportation of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Jersey “humane” treatment act 199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(e.g., Florida) regulate use of crates for veal calves and sow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alifornia Prevention of Farm Animal Cruelty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comes into force in 20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lot initiatives have been used to promote legis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have established boards to advise on standards and pract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ulatory activity at the state level has been steadily increasing with differences in provisions and their scop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dustry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ed Egg Producers (UEP) setting standards for laying hens since 19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oluntary approaches to higher standards promoted by food industry organizations and private firms (e.g., McDonalds®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ome companies terminate contracts with suppliers that fail performance aud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37:19Z</dcterms:modified>
  <cp:revision>20</cp:revision>
  <dc:subject/>
  <dc:title>U.S. Policies Affecting Food and Agricultural Marketing</dc:title>
</cp:coreProperties>
</file>